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891200" cy="3291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C6CC2-3D40-4F42-B55E-C81E2FD9CE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92560" y="1828800"/>
            <a:ext cx="37306080" cy="768024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37306080" cy="1116612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292560" y="21736440"/>
            <a:ext cx="37306080" cy="1116612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E6CD8-6A23-41C9-97A5-DD75B635C8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92560" y="1828800"/>
            <a:ext cx="37306080" cy="768024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1116612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1116612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292560" y="21736440"/>
            <a:ext cx="18205200" cy="1116612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22408560" y="21736440"/>
            <a:ext cx="18205200" cy="1116612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31600-C245-4E72-AAC3-7E2DF96F8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92560" y="1828800"/>
            <a:ext cx="37306080" cy="768024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2012480" cy="1116612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5905880" y="9509040"/>
            <a:ext cx="12012480" cy="1116612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519560" y="9509040"/>
            <a:ext cx="12012480" cy="1116612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292560" y="21736440"/>
            <a:ext cx="12012480" cy="1116612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15905880" y="21736440"/>
            <a:ext cx="12012480" cy="1116612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28519560" y="21736440"/>
            <a:ext cx="12012480" cy="1116612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E18A3-322C-4B4C-BC5C-63200D85FF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292560" y="1828800"/>
            <a:ext cx="37306080" cy="768024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292560" y="9509040"/>
            <a:ext cx="37306080" cy="2340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DDEF7-84D9-4F74-BD39-58D15F334C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92560" y="1828800"/>
            <a:ext cx="37306080" cy="768024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37306080" cy="2340936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5EBF5-C3F1-4376-86AC-6AB917CA03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92560" y="1828800"/>
            <a:ext cx="37306080" cy="768024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2340936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2340936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DDA9D-2D07-4E65-B7FA-A2C007655B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92560" y="1828800"/>
            <a:ext cx="37306080" cy="768024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E6C16-AF2E-4057-B005-AF39F81E8F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292560" y="1828800"/>
            <a:ext cx="37306080" cy="35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014E8-59B0-4593-AA29-F2CA163C1A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92560" y="1828800"/>
            <a:ext cx="37306080" cy="768024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1116612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2340936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292560" y="21736440"/>
            <a:ext cx="18205200" cy="1116612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CFC39-5898-4057-9106-D5A133F136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92560" y="1828800"/>
            <a:ext cx="37306080" cy="768024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2340936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1116612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408560" y="21736440"/>
            <a:ext cx="18205200" cy="1116612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31AB5-2CDC-4D2F-A669-28FDD7480B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92560" y="1828800"/>
            <a:ext cx="37306080" cy="768024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1116612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1116612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292560" y="21736440"/>
            <a:ext cx="37306080" cy="1116612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3C38F-625C-4D33-B29D-371FAA0912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92560" y="1828800"/>
            <a:ext cx="37306080" cy="768024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92560" y="9509040"/>
            <a:ext cx="37306080" cy="23409360"/>
          </a:xfrm>
          <a:prstGeom prst="rect">
            <a:avLst/>
          </a:prstGeom>
          <a:noFill/>
          <a:ln w="0">
            <a:noFill/>
          </a:ln>
        </p:spPr>
        <p:txBody>
          <a:bodyPr lIns="216000" rIns="438840" tIns="216000" bIns="216000" anchor="t">
            <a:normAutofit/>
          </a:bodyPr>
          <a:p>
            <a:pPr marL="1652760" indent="-16462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1" marL="3571920" indent="-1371600">
              <a:spcBef>
                <a:spcPts val="35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2" marL="5492880" indent="-109692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3" marL="7686720" indent="-1096920">
              <a:spcBef>
                <a:spcPts val="35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4" marL="9882360" indent="-1097280">
              <a:spcBef>
                <a:spcPts val="35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5" marL="9882360" indent="-1097280">
              <a:spcBef>
                <a:spcPts val="35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6" marL="9882360" indent="-1097280">
              <a:spcBef>
                <a:spcPts val="35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5329680" y="29992320"/>
            <a:ext cx="13924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7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3CDE-125C-4CC4-B564-B9415BA62D01}" type="slidenum">
              <a:rPr b="0" lang="en-US" sz="67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8791000" y="18554760"/>
            <a:ext cx="13716000" cy="13855680"/>
          </a:xfrm>
          <a:prstGeom prst="rect">
            <a:avLst/>
          </a:prstGeom>
          <a:solidFill>
            <a:srgbClr val="f9ffc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5329680" y="29992320"/>
            <a:ext cx="13924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9F80-36EE-4805-A017-9F4F0F13BCA1}" type="slidenum">
              <a:rPr b="0" lang="en-US" sz="67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333440" y="1066680"/>
            <a:ext cx="41224320" cy="2210040"/>
          </a:xfrm>
          <a:prstGeom prst="rect">
            <a:avLst/>
          </a:prstGeom>
          <a:solidFill>
            <a:srgbClr val="86a1c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113160" y="5867280"/>
            <a:ext cx="13258800" cy="26492400"/>
          </a:xfrm>
          <a:prstGeom prst="rect">
            <a:avLst/>
          </a:prstGeom>
          <a:solidFill>
            <a:srgbClr val="ebf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a1a1a"/>
                </a:solidFill>
                <a:latin typeface="Arial"/>
                <a:ea typeface="Arial"/>
              </a:rPr>
              <a:t>RESUL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35240" y="3911760"/>
            <a:ext cx="112140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a1a1a"/>
                </a:solidFill>
                <a:latin typeface="Arial"/>
                <a:ea typeface="Arial"/>
              </a:rPr>
              <a:t>N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a1a"/>
                </a:solidFill>
                <a:latin typeface="Arial"/>
                <a:ea typeface="Arial"/>
              </a:rPr>
              <a:t>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5791320"/>
            <a:ext cx="13716000" cy="12077640"/>
          </a:xfrm>
          <a:prstGeom prst="rect">
            <a:avLst/>
          </a:prstGeom>
          <a:solidFill>
            <a:srgbClr val="b2b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03320" y="18326160"/>
            <a:ext cx="13716000" cy="14084280"/>
          </a:xfrm>
          <a:prstGeom prst="rect">
            <a:avLst/>
          </a:prstGeom>
          <a:solidFill>
            <a:srgbClr val="c0aac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803600" y="5854680"/>
            <a:ext cx="13716000" cy="12319200"/>
          </a:xfrm>
          <a:prstGeom prst="rect">
            <a:avLst/>
          </a:prstGeom>
          <a:solidFill>
            <a:srgbClr val="b4cba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74600" y="1384200"/>
            <a:ext cx="111254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Question or proble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6172200"/>
            <a:ext cx="13271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a1a1a"/>
                </a:solidFill>
                <a:latin typeface="Arial"/>
                <a:ea typeface="Arial"/>
              </a:rPr>
              <a:t>PROBLE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845080" y="19062720"/>
            <a:ext cx="11594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a1a1a"/>
                </a:solidFill>
                <a:latin typeface="Arial"/>
                <a:ea typeface="Arial"/>
              </a:rPr>
              <a:t>EXPLANATIO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175200" y="6019920"/>
            <a:ext cx="11595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a1a1a"/>
                </a:solidFill>
                <a:latin typeface="Arial"/>
                <a:ea typeface="Arial"/>
              </a:rPr>
              <a:t>METHO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141680" y="3746520"/>
            <a:ext cx="112140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a1a1a"/>
                </a:solidFill>
                <a:latin typeface="Arial"/>
                <a:ea typeface="Arial"/>
              </a:rPr>
              <a:t>N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a1a"/>
                </a:solidFill>
                <a:latin typeface="Arial"/>
                <a:ea typeface="Arial"/>
              </a:rPr>
              <a:t>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124440" y="3898800"/>
            <a:ext cx="112140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a1a1a"/>
                </a:solidFill>
                <a:latin typeface="Arial"/>
                <a:ea typeface="Arial"/>
              </a:rPr>
              <a:t>N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a1a"/>
                </a:solidFill>
                <a:latin typeface="Arial"/>
                <a:ea typeface="Arial"/>
              </a:rPr>
              <a:t>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18897480"/>
            <a:ext cx="1327140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a1a1a"/>
                </a:solidFill>
                <a:latin typeface="Arial"/>
                <a:ea typeface="Arial"/>
              </a:rPr>
              <a:t>PREDI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olly Schauffler</dc:creator>
  <dc:description/>
  <dc:language>en-US</dc:language>
  <cp:lastModifiedBy/>
  <cp:revision>0</cp:revision>
  <dc:subject/>
  <dc:title>PowerPoint Presentation</dc:title>
</cp:coreProperties>
</file>